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B418-2405-4FED-9D1B-B71CE62558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Mice and Men </a:t>
            </a:r>
            <a:br>
              <a:rPr sz="1200"/>
            </a:br>
            <a:r>
              <a:rPr b="0" lang="en-US" sz="1200" spc="-1" strike="noStrike">
                <a:solidFill>
                  <a:srgbClr val="ffffff"/>
                </a:solidFill>
                <a:latin typeface="Arial"/>
              </a:rPr>
              <a:t>Themes: Viol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ice and Men </a:t>
            </a:r>
            <a:br>
              <a:rPr sz="1200"/>
            </a:br>
            <a:r>
              <a:rPr b="0" lang="en-US" sz="1200" spc="-1" strike="noStrike">
                <a:solidFill>
                  <a:srgbClr val="000000"/>
                </a:solidFill>
                <a:latin typeface="Arial"/>
              </a:rPr>
              <a:t>Themes: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the most obviously violent character. Whenever he appears there is a feeling of ten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described as pugnacious when we first meet him, and causes George to rem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the hell's he got on his shoul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the most obviously violent character. Whenever he appears there is a feeling of 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described as pugnacious when we first meet him, and causes George to re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hell's he got on his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 is another character associated with violence. He is unconcerned about killing Candy's dog (and in fact callously cleans the gun in Candy's pres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goes to watch the fun when Curley thinks Slim may be with his wife, and later goads Curley more, threatening to '... kick your head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he is very keen to get his gun to join in the hunt for Lenni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is another character associated with violence. He is unconcerned about killing Candy's dog (and in fact callously cleans the gun in Candy's pres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goes to watch the fun when Curley thinks Slim may be with his wife, and later goads Curley more, threatening to '... kick your head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he is very keen to get his gun to join in the hunt for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so little control over his own strength that he accidentally kills his puppy, and then minutes later snuffs out the life of Curley's wi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so little control over his own strength that he accidentally kills his puppy, and then minutes later snuffs out the life of 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threat of violence to be used against Lennie that causes George to take the final step of killing his fri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threat of violence to be used against Lennie that causes George to take the final step of killing his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inbeck shows the world of nature to be a beautiful and peaceful one, but threatened by the actions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ginning of the novel sets this pattern, as the creatures at the pool are disturbed by George and Lennie's appro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anch and its buildings, being created by men, are in contrast with the natural world. Notice that the bunkhouse, for example, is quite bare and st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more unnatural is that Candy and Crooks are both deformed or unnatural in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ed to these two characters is Lennie, who almost seems a part of the natural world as he is described in animal te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eck shows the world of nature to be a beautiful and peaceful one, but threatened by the actions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 of the novel sets this pattern, as the creatures at the pool are disturbed by George and Lennie'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ch and its buildings, being created by men, are in contrast with the natural world. Notice that the bunkhouse, for example, is quite bare and st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unnatural is that Candy and Crooks are both deformed or unnatural in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to these two characters is Lennie, who almost seems a part of the natural world as he is described in animal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C7981-B643-484D-B8FE-0EA76253E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E6DCC-8256-4859-AED5-388B9FE63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FC24B-4228-49FD-A601-6B55683C6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BABA8-F7F8-4D6B-872B-D7F139AF2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7D5A159-D2BD-4722-B487-7D7802B62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56DA10-310B-43E0-840F-4F9BE7919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FADBDD-D22A-4286-B81C-99E517ED0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EBA634-9B59-4909-A00E-58E7B33B9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665462-6672-41F5-9AC8-64359AB64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B8A29C-3C60-45DF-B927-382F0205A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818FF1-E70E-40DC-A2F2-022EACFEE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08AF3-C599-4F15-8E39-983AD4C06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E4388E-0547-433D-8BBF-C38E6B4D7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4A2CAB-2FD9-4316-853C-0CA4E77EC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44692B-E1C3-4528-B7E1-0C66B153A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AEE3FE5-DCA2-4AB5-AF86-A3CC77C7D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22522BF-BBD9-4598-83A8-6DC8C6EAF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57C83-881D-4C4A-BC54-0A5176941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1E011-8E49-4683-8293-435BECEC1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CEB54-1AAA-4A0F-9153-14BF202B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D0B54-F637-4BE8-9EA9-DDC99560A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B8EE3-C9F6-414B-BAB7-71CC1238D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08A64-992D-4145-AD5D-1225D835A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4767D-F23A-4E35-9D24-E6775F246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8B78-FC6C-43EA-8542-34BD180299B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98C1-014E-4A36-B48E-68AD80BC5B1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Of Mice and Men </a:t>
            </a:r>
            <a:br>
              <a:rPr sz="5400"/>
            </a:br>
            <a:r>
              <a:rPr b="0" lang="en-GB" sz="5400" spc="-1" strike="noStrike">
                <a:solidFill>
                  <a:srgbClr val="e3e3ff"/>
                </a:solidFill>
                <a:latin typeface="Arial"/>
              </a:rPr>
              <a:t>Themes: Violence</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urley</a:t>
            </a:r>
            <a:endParaRPr b="0" lang="en-US" sz="4400" spc="-1" strike="noStrike">
              <a:solidFill>
                <a:srgbClr val="e3e3ff"/>
              </a:solidFill>
              <a:latin typeface="Arial"/>
            </a:endParaRPr>
          </a:p>
        </p:txBody>
      </p:sp>
      <p:sp>
        <p:nvSpPr>
          <p:cNvPr id="13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the most obviously violent character. Whenever he appears there is a feeling of ten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described as pugnacious when we first meet him, and causes George to remar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at the hell's he got on his shoul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arlson</a:t>
            </a:r>
            <a:endParaRPr b="0" lang="en-US" sz="4400" spc="-1" strike="noStrike">
              <a:solidFill>
                <a:srgbClr val="e3e3ff"/>
              </a:solidFill>
              <a:latin typeface="Arial"/>
            </a:endParaRPr>
          </a:p>
        </p:txBody>
      </p:sp>
      <p:sp>
        <p:nvSpPr>
          <p:cNvPr id="134"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lson is another character associated with violence. He is unconcerned about killing Candy's dog (and in fact callously cleans the gun in Candy's pres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goes to watch the fun when Curley thinks Slim may be with his wife, and later goads Curley more, threatening to '... kick your head off.'</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ter he is very keen to get his gun to join in the hunt for Lenni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Lenni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has so little control over his own strength that he accidentally kills his puppy, and then minutes later snuffs out the life of Curley's wif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threat of violence to be used against Lennie that causes George to take the final step of killing his frie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3e3ff"/>
                </a:solidFill>
                <a:latin typeface="Arial"/>
              </a:rPr>
              <a:t>Nature</a:t>
            </a: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einbeck shows the world of nature to be a beautiful and peaceful one, but threatened by the actions of m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ginning of the novel sets this pattern, as the creatures at the pool are disturbed by George and Lennie's approac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ranch and its buildings, being created by men, are in contrast with the natural world. Notice that the bunkhouse, for example, is quite bare and star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more unnatural is that Candy and Crooks are both deformed or unnatural in appea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trasted to these two characters is Lennie, who almost seems a part of the natural world as he is described in animal ter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0:15:43Z</dcterms:created>
  <dc:creator>svanvlo</dc:creator>
  <dc:description/>
  <dc:language>en-US</dc:language>
  <cp:lastModifiedBy>RomaK</cp:lastModifiedBy>
  <dcterms:modified xsi:type="dcterms:W3CDTF">2015-09-04T10:36:52Z</dcterms:modified>
  <cp:revision>7</cp:revision>
  <dc:subject/>
  <dc:title>Of Mice and Men  Themes: Violence</dc:title>
</cp:coreProperties>
</file>